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21EE2-B778-4BA4-8713-2C88497AB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EB031-0773-48BB-89D4-7958ED96D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FFABE-1CDD-4F04-B307-468DFAA7A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9E5CB-B037-409A-A95E-58739EDA4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F7A7A-DD09-4533-B7BC-D7916CD22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8D6D4-9111-48F9-BDC5-45994ACBE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D072B-0226-464C-B49C-50CE092C2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72921-1FAB-4839-9F50-A5CBD6A5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F42A7-5DB6-4D6F-979A-EC0085FD8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83AF-FB77-415E-9C81-5475A2A4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D42A1-A5C2-48FD-A8AB-336C04917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DE699-38F5-42FC-A9EC-38EF1849D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4C26-DDAA-43C8-8A33-A4C28AB8BC9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50920" y="476280"/>
            <a:ext cx="856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llegamenti meccani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Chioda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Salda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Incollagg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Filetta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Chiavette, linguette, sp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95280" y="549360"/>
            <a:ext cx="86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 - Ispezione</a:t>
            </a:r>
            <a:br>
              <a:rPr sz="1800"/>
            </a:br>
            <a:r>
              <a:rPr b="0" lang="it-IT" sz="1800" spc="-1" strike="noStrike">
                <a:solidFill>
                  <a:srgbClr val="000000"/>
                </a:solidFill>
                <a:latin typeface="Arial"/>
              </a:rPr>
              <a:t>Dopo un sufficiente tempo di "sviluppo" la superficie viene esaminata visivamente per cogliere le indicazioni fornite dal penetrante fuoriuscito dalle discontinuità affioranti in superficie. Questa osservazione deve essere effettuata in un idoneo ambiente a luminosità controll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a:t>
            </a:r>
            <a:r>
              <a:rPr b="1" lang="it-IT" sz="1800" spc="-1" strike="noStrike">
                <a:solidFill>
                  <a:srgbClr val="000000"/>
                </a:solidFill>
                <a:latin typeface="Arial"/>
              </a:rPr>
              <a:t>tecnica visibile</a:t>
            </a:r>
            <a:r>
              <a:rPr b="0" lang="it-IT" sz="1800" spc="-1" strike="noStrike">
                <a:solidFill>
                  <a:srgbClr val="000000"/>
                </a:solidFill>
                <a:latin typeface="Arial"/>
              </a:rPr>
              <a:t> (o a contrasto di colore) l'ispezione viene eseguita in luce bianca con </a:t>
            </a:r>
            <a:r>
              <a:rPr b="1" lang="it-IT" sz="1800" spc="-1" strike="noStrike">
                <a:solidFill>
                  <a:srgbClr val="000000"/>
                </a:solidFill>
                <a:latin typeface="Arial"/>
              </a:rPr>
              <a:t>luminosità &gt; 2.000 lux</a:t>
            </a:r>
            <a:r>
              <a:rPr b="0" lang="it-IT" sz="1800" spc="-1" strike="noStrike">
                <a:solidFill>
                  <a:srgbClr val="000000"/>
                </a:solidFill>
                <a:latin typeface="Arial"/>
              </a:rPr>
              <a:t>; nella </a:t>
            </a:r>
            <a:r>
              <a:rPr b="1" lang="it-IT" sz="1800" spc="-1" strike="noStrike">
                <a:solidFill>
                  <a:srgbClr val="000000"/>
                </a:solidFill>
                <a:latin typeface="Arial"/>
              </a:rPr>
              <a:t>tecnica fluorescente</a:t>
            </a:r>
            <a:r>
              <a:rPr b="0" lang="it-IT" sz="1800" spc="-1" strike="noStrike">
                <a:solidFill>
                  <a:srgbClr val="000000"/>
                </a:solidFill>
                <a:latin typeface="Arial"/>
              </a:rPr>
              <a:t> l'ispezione viene effettuata in un'area oscurata e la superficie viene illuminata per mezzo di una lampada di Wood (a luce nera) con una </a:t>
            </a:r>
            <a:r>
              <a:rPr b="1" lang="it-IT" sz="1800" spc="-1" strike="noStrike">
                <a:solidFill>
                  <a:srgbClr val="000000"/>
                </a:solidFill>
                <a:latin typeface="Arial"/>
              </a:rPr>
              <a:t>emissione luminosa &gt; 6.000 µW/cm²</a:t>
            </a:r>
            <a:r>
              <a:rPr b="0" lang="it-IT" sz="1800" spc="-1" strike="noStrike">
                <a:solidFill>
                  <a:srgbClr val="000000"/>
                </a:solidFill>
                <a:latin typeface="Arial"/>
              </a:rPr>
              <a:t> che permette al penetrante di emettere luce visibile che identifica così le difettosità affiorant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765000"/>
            <a:ext cx="8424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odi ferromagneti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controllo non distruttivo per mezzo di particelle magnetiche è un metodo per la localizzazione di discontinuità sub-superficiali in materiali ferromagnetici.</a:t>
            </a:r>
            <a:br>
              <a:rPr sz="2400"/>
            </a:br>
            <a:r>
              <a:rPr b="0" lang="it-IT" sz="2400" spc="-1" strike="noStrike">
                <a:solidFill>
                  <a:srgbClr val="000000"/>
                </a:solidFill>
                <a:latin typeface="Arial"/>
              </a:rPr>
              <a:t>Il test si basa sul fatto che quando l'oggetto da testare è magnetizzato, le discontinuità che si trovano in un senso generalmente trasversale al campo magnetico determinano una deviazione delle linee di flusso del campo magnetico stesso</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barra di materiale ferromagnetico presenta un polo ad ogni estremità. Le linee di forza del campo magnetico scorrono attraverso la barra dal polo Sud in direzione del polo Nor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iché le linee di forza magnetiche corrono nel senso della lunghezza della barra, si dice che la barra è magnetizzata longitudinalmente ovvero che contiene un campo magnetico longitudinale. Se la barra viene rotta in due pezzi  tra i due pezzi si crea una fuga di campo magnetico, caratterizzata anch'essa dalla presenza dei poli Sud e Nord. </a:t>
            </a:r>
            <a:endParaRPr b="0" lang="en-US" sz="2400" spc="-1" strike="noStrike">
              <a:solidFill>
                <a:srgbClr val="000000"/>
              </a:solidFill>
              <a:latin typeface="Arial"/>
            </a:endParaRPr>
          </a:p>
        </p:txBody>
      </p:sp>
      <p:pic>
        <p:nvPicPr>
          <p:cNvPr id="57" name="Picture 3" descr="imgviewer"/>
          <p:cNvPicPr/>
          <p:nvPr/>
        </p:nvPicPr>
        <p:blipFill>
          <a:blip r:embed="rId1"/>
          <a:stretch/>
        </p:blipFill>
        <p:spPr>
          <a:xfrm>
            <a:off x="2340000" y="3573360"/>
            <a:ext cx="4176720" cy="2851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95280" y="76500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a fuga di campo persiste anche se i due spezzoni di barra vengono riavvicinati.</a:t>
            </a:r>
            <a:endParaRPr b="0" lang="en-US" sz="2400" spc="-1" strike="noStrike">
              <a:solidFill>
                <a:srgbClr val="000000"/>
              </a:solidFill>
              <a:latin typeface="Arial"/>
            </a:endParaRPr>
          </a:p>
        </p:txBody>
      </p:sp>
      <p:pic>
        <p:nvPicPr>
          <p:cNvPr id="59" name="Picture 3" descr="imgviewer"/>
          <p:cNvPicPr/>
          <p:nvPr/>
        </p:nvPicPr>
        <p:blipFill>
          <a:blip r:embed="rId1"/>
          <a:stretch/>
        </p:blipFill>
        <p:spPr>
          <a:xfrm>
            <a:off x="1763640" y="2492280"/>
            <a:ext cx="5545080" cy="367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cora, se la barra di materiale ferromagnetico è "criccata" ma non rotta completamente in due, accade comunque qualcosa di simi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gli opposti bordi della cricca si formano un polo Nord ed un polo Sud.  E' proprio questo campo che attrae le particelle magnetiche che determinano il "profilo" della cricca. Ovviamente la forza di questi poli sarà differente da quella dei poli ottenuti nel caso della barra completamente rotta e sarà in funzione della profondità e della larghezza della cricca in superficie.</a:t>
            </a:r>
            <a:endParaRPr b="0" lang="en-US" sz="2400" spc="-1" strike="noStrike">
              <a:solidFill>
                <a:srgbClr val="000000"/>
              </a:solidFill>
              <a:latin typeface="Arial"/>
            </a:endParaRPr>
          </a:p>
        </p:txBody>
      </p:sp>
      <p:pic>
        <p:nvPicPr>
          <p:cNvPr id="61" name="Picture 4" descr="imgviewer"/>
          <p:cNvPicPr/>
          <p:nvPr/>
        </p:nvPicPr>
        <p:blipFill>
          <a:blip r:embed="rId1"/>
          <a:stretch/>
        </p:blipFill>
        <p:spPr>
          <a:xfrm>
            <a:off x="3635280" y="3573360"/>
            <a:ext cx="4392720" cy="28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395280" y="476280"/>
            <a:ext cx="842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materiali non ferromagnetici non possono essere controllati mediante questo metodo</a:t>
            </a:r>
            <a:r>
              <a:rPr b="0" lang="it-IT" sz="2400" spc="-1" strike="noStrike">
                <a:solidFill>
                  <a:srgbClr val="000000"/>
                </a:solidFill>
                <a:latin typeface="Arial"/>
              </a:rPr>
              <a:t>. Quindi non risultano controllabili con questo metodo: leghe di alluminio, leghe di magnesio, rame e le sue leghe, titanio e le sue leghe, acciai inossidabili austenitici. </a:t>
            </a:r>
            <a:endParaRPr b="0" lang="en-US" sz="2400" spc="-1" strike="noStrike">
              <a:solidFill>
                <a:srgbClr val="000000"/>
              </a:solidFill>
              <a:latin typeface="Arial"/>
            </a:endParaRPr>
          </a:p>
        </p:txBody>
      </p:sp>
      <p:sp>
        <p:nvSpPr>
          <p:cNvPr id="63" name="Rettangolo 4"/>
          <p:cNvSpPr/>
          <p:nvPr/>
        </p:nvSpPr>
        <p:spPr>
          <a:xfrm>
            <a:off x="395280" y="2997360"/>
            <a:ext cx="8424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rrenti indot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etodo a correnti indotte è basato sul principio dell'induzione magnetica; quando una bobina percorsa da corrente alternata genera un campo magnetico primario variabile nel tempo, questo induce delle correnti indotte (anche dette </a:t>
            </a:r>
            <a:r>
              <a:rPr b="1" lang="it-IT" sz="1800" spc="-1" strike="noStrike">
                <a:solidFill>
                  <a:srgbClr val="000000"/>
                </a:solidFill>
                <a:latin typeface="Arial"/>
              </a:rPr>
              <a:t>parassite o di Foucault</a:t>
            </a:r>
            <a:r>
              <a:rPr b="0" lang="it-IT" sz="1800" spc="-1" strike="noStrike">
                <a:solidFill>
                  <a:srgbClr val="000000"/>
                </a:solidFill>
                <a:latin typeface="Arial"/>
              </a:rPr>
              <a:t>) nel materiale conduttore da esaminare, posto in prossimità di essa. Le correnti indotte generate, a loro volta, creano un campo magnetico secondario che, interagendo con quello primario, determina il valore di impedenza della bobina induttrice. I valori rilevati possono essere correlati, mediante taratura con campioni di riferimento, all'entità dei difetti o alle caratteristiche chimico-strutturali (composizione chimica, stato di trattamento termico, alterazioni strutturali) del materiale oggetto del controll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395280" y="47628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CONTROLLO AD ULTRASUONI</a:t>
            </a:r>
            <a:br>
              <a:rPr sz="2400"/>
            </a:br>
            <a:r>
              <a:rPr b="0" lang="it-IT" sz="2400" spc="-1" strike="noStrike">
                <a:solidFill>
                  <a:srgbClr val="000000"/>
                </a:solidFill>
                <a:latin typeface="Arial"/>
              </a:rPr>
              <a:t>L'ispezione mediante ultrasuoni è un metodo non distruttivo in cui onde sonore ad alta frequenza sono introdotte nel materiale da esaminare, allo scopo di evidenziare difetti superficiali o interni, misurare lo spessore dei materiali, misurare la distanza e la dimensione delle difettosità.</a:t>
            </a:r>
            <a:endParaRPr b="0" lang="en-US" sz="2400" spc="-1" strike="noStrike">
              <a:solidFill>
                <a:srgbClr val="000000"/>
              </a:solidFill>
              <a:latin typeface="Arial"/>
            </a:endParaRPr>
          </a:p>
        </p:txBody>
      </p:sp>
      <p:pic>
        <p:nvPicPr>
          <p:cNvPr id="65" name="Picture 3" descr="imgviewer"/>
          <p:cNvPicPr/>
          <p:nvPr/>
        </p:nvPicPr>
        <p:blipFill>
          <a:blip r:embed="rId1"/>
          <a:stretch/>
        </p:blipFill>
        <p:spPr>
          <a:xfrm>
            <a:off x="2195640" y="2924280"/>
            <a:ext cx="4897440" cy="36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95280" y="549360"/>
            <a:ext cx="8424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nde ultrasonore</a:t>
            </a:r>
            <a:br>
              <a:rPr sz="2400"/>
            </a:br>
            <a:r>
              <a:rPr b="0" lang="it-IT" sz="2400" spc="-1" strike="noStrike">
                <a:solidFill>
                  <a:srgbClr val="000000"/>
                </a:solidFill>
                <a:latin typeface="Arial"/>
              </a:rPr>
              <a:t>La tecnica si basa essenzialmente sul fenomeno della trasmissione di un'onda acustica nel materiale. Gli ultrasuoni sono onde elastiche vibrazionali con  frequenza compresa tra 1 e 10 MHz (per certe applicazioni il campo si può estendere dai  20 KHz  fino ad oltre 200 MHz). </a:t>
            </a:r>
            <a:br>
              <a:rPr sz="2400"/>
            </a:br>
            <a:r>
              <a:rPr b="0" lang="it-IT" sz="2400" spc="-1" strike="noStrike">
                <a:solidFill>
                  <a:srgbClr val="000000"/>
                </a:solidFill>
                <a:latin typeface="Arial"/>
              </a:rPr>
              <a:t>Le onde ultrasonore sono generate sfruttando le proprietà piezoelettriche di alcuni materiali; queste proprietà consistono nella capacità di questi materiali di contrarsi e riespandersi quando sottoposti all'azione di un campo elettrico alternato. Se il campo elettrico alternato possiede adatta frequenza, le vibrazioni del materiale producono onde elastiche di frequenza ultrasonora. Il fenomeno è reversibile: in altre parole lo stesso materiale capace di emettere ultrasuoni, può generare un segnale elettrico se investito da un fascio d'onde elast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95280" y="476280"/>
            <a:ext cx="842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nde e materiale</a:t>
            </a:r>
            <a:br>
              <a:rPr sz="2400"/>
            </a:br>
            <a:r>
              <a:rPr b="0" lang="it-IT" sz="2400" spc="-1" strike="noStrike">
                <a:solidFill>
                  <a:srgbClr val="000000"/>
                </a:solidFill>
                <a:latin typeface="Arial"/>
              </a:rPr>
              <a:t>Le onde ultrasonore possono essere di tipo trasversale e di tipo longitudinale ed hanno una capacità di penetrazione nel materiale che è inversamente proporzionale alla loro frequenz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penetrazione dipende anche dalle caratteristiche del materiale che deve essere attraversato: in particolare </a:t>
            </a:r>
            <a:r>
              <a:rPr b="1" lang="it-IT" sz="2400" spc="-1" strike="noStrike">
                <a:solidFill>
                  <a:srgbClr val="000000"/>
                </a:solidFill>
                <a:latin typeface="Arial"/>
              </a:rPr>
              <a:t>l'</a:t>
            </a:r>
            <a:r>
              <a:rPr b="1" lang="it-IT" sz="2400" spc="-1" strike="noStrike" u="sng">
                <a:solidFill>
                  <a:srgbClr val="000000"/>
                </a:solidFill>
                <a:uFillTx/>
                <a:latin typeface="Arial"/>
              </a:rPr>
              <a:t>impedenza acustica</a:t>
            </a:r>
            <a:r>
              <a:rPr b="1" lang="it-IT" sz="2400" spc="-1" strike="noStrike">
                <a:solidFill>
                  <a:srgbClr val="000000"/>
                </a:solidFill>
                <a:latin typeface="Arial"/>
              </a:rPr>
              <a:t> "Z" </a:t>
            </a:r>
            <a:r>
              <a:rPr b="0" lang="it-IT" sz="2400" spc="-1" strike="noStrike">
                <a:solidFill>
                  <a:srgbClr val="000000"/>
                </a:solidFill>
                <a:latin typeface="Arial"/>
              </a:rPr>
              <a:t>definita come il prodotto della sua densità "R" per la velocità di propagazione dell'onda nel mezz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nde ultrasonore posso essere inviate nel materiale da esaminare ed in esso si propagheranno con la stessa frequenza del generatore e con una velocità che dipende dal materiale attravers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95280" y="476280"/>
            <a:ext cx="8424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fascio ultrasonoro in uscita dal trasduttore è caratterizzato dalla sua forma geometrica (dimensioni e campo) mentre il segnale ultrasonoro in ricezione (riflesso o trasmesso) è caratterizzato da due parametri fondamenta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mpiezza "a"</a:t>
            </a:r>
            <a:r>
              <a:rPr b="0" lang="it-IT" sz="2400" spc="-1" strike="noStrike">
                <a:solidFill>
                  <a:srgbClr val="000000"/>
                </a:solidFill>
                <a:latin typeface="Arial"/>
              </a:rPr>
              <a:t> ovvero il valore di picco dell'impulso mostrato sullo schermo dello strumento (A-s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mpo di volo "t"</a:t>
            </a:r>
            <a:r>
              <a:rPr b="0" lang="it-IT" sz="2400" spc="-1" strike="noStrike">
                <a:solidFill>
                  <a:srgbClr val="000000"/>
                </a:solidFill>
                <a:latin typeface="Arial"/>
              </a:rPr>
              <a:t>  ovvero il tempo intercorso tra l'impulso di trasmesso e quello ricevuto; sullo schermo dell'apparecchio tale tempo è indicato dalla distanza tra i due impulsi. Il tempo di volo fornisce la misura indiretta del percorso "l" effettuato dall'onda ultrasonora nel mezz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611280" y="333360"/>
            <a:ext cx="77770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ualmente le chiodature sono utilizzate esclusivamente in campo aereonautico dove si fa largo uso di leghe leggere e materiali composi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ulloneria e soprattutto le saldature hanno sostituito le chiodature ma solo quando è stato possibile verificare la buona qualità delle saldature con opportuni sistemi di controllo, svincolando così il problema dalla sola buona sorte della manualità dell’operat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95280" y="476280"/>
            <a:ext cx="8424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altre parole il segnale di partenza degli ultrasuoni (chiamato "eco di partenza") e quello riflesso dalla superficie opposta a quella d'entrata (chiamato "eco di fondo"), vengono visualizzati sullo schermo dello strumento con dei picchi, la cui distanza risulta proporzionale al tempo che gli ultrasuoni impiegano per percorrere il viaggio di andata e di ritorno dalla sonda alla superficie riflettente presente all'interno del materiale.</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durante tale percorso il fascio ultrasonoro incontra delle discontinuità sarà riflesso, assorbito, deviato o diffratto secondo le leggi comuni a tutti i fenomeni di propagazione delle onde e sullo schermo, tra i due precedenti picchi (eco di partenza ed eco di fondo),  ne compariranno altri che rappresentano delle indicazioni relative al tipo di discontinuità incont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95280" y="476280"/>
            <a:ext cx="842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ocalizzazione e dimensionamento dei difet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00"/>
                </a:solidFill>
                <a:latin typeface="Arial"/>
              </a:rPr>
              <a:t>L'energia assorbita dal difetto colpito dalle onde incidenti fa sì che esso possa vibrare emettendo a sua volta onde elastiche di frequenza tipica della sua risonanza e variamente sfas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unque il segnale che ritorna verso il trasduttore è molto complesso, perché è la risultante della sommatoria di molte onde di uguale frequenza, ma sfasate, e di altre onde di frequenza diversa, pure sfasate fra loro. Tale segnale contiene tutte le informazioni sulle dimensioni, geometria e natura dell'ostacolo incontrato dal fascio d'ultrasuoni incide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95280" y="47628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localizzazione ed il dimensionamento dei difetti avviene generalmente attraverso un processo di correlazione tra le caratteristiche del fascio ultrasonoro, le caratteristiche fisiche e geometriche del materiale, i parametri "a" (ampiezza) e "t" (tempo di volo) precedentemente descritti e le coordinate della traiettoria di scansione.</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risultati dell'ispezione vengono spesso mostrati in forma di restituzione grafica C-scan (rappresentazione in pianta) e B-scan (rappresentazione in profondit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95280" y="47628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ICHE DI CONTROLLO</a:t>
            </a:r>
            <a:br>
              <a:rPr sz="1800"/>
            </a:br>
            <a:r>
              <a:rPr b="1" lang="it-IT" sz="1800" spc="-1" strike="noStrike">
                <a:solidFill>
                  <a:srgbClr val="000000"/>
                </a:solidFill>
                <a:latin typeface="Arial"/>
              </a:rPr>
              <a:t>	</a:t>
            </a:r>
            <a:r>
              <a:rPr b="1" lang="it-IT" sz="1800" spc="-1" strike="noStrike">
                <a:solidFill>
                  <a:srgbClr val="000000"/>
                </a:solidFill>
                <a:latin typeface="Arial"/>
              </a:rPr>
              <a:t>TECNICA PER TRASPARENZA</a:t>
            </a:r>
            <a:br>
              <a:rPr sz="1800"/>
            </a:br>
            <a:r>
              <a:rPr b="0" lang="it-IT" sz="1800" spc="-1" strike="noStrike">
                <a:solidFill>
                  <a:srgbClr val="000000"/>
                </a:solidFill>
                <a:latin typeface="Arial"/>
              </a:rPr>
              <a:t>con tre metodi:</a:t>
            </a:r>
            <a:br>
              <a:rPr sz="1800"/>
            </a:br>
            <a:r>
              <a:rPr b="0" lang="it-IT" sz="1800" spc="-1" strike="noStrike">
                <a:solidFill>
                  <a:srgbClr val="000000"/>
                </a:solidFill>
                <a:latin typeface="Arial"/>
              </a:rPr>
              <a:t> - trasmissione</a:t>
            </a:r>
            <a:br>
              <a:rPr sz="1800"/>
            </a:br>
            <a:r>
              <a:rPr b="0" lang="it-IT" sz="1800" spc="-1" strike="noStrike">
                <a:solidFill>
                  <a:srgbClr val="000000"/>
                </a:solidFill>
                <a:latin typeface="Arial"/>
              </a:rPr>
              <a:t> - riflessione</a:t>
            </a:r>
            <a:br>
              <a:rPr sz="1800"/>
            </a:br>
            <a:r>
              <a:rPr b="0" lang="it-IT" sz="1800" spc="-1" strike="noStrike">
                <a:solidFill>
                  <a:srgbClr val="000000"/>
                </a:solidFill>
                <a:latin typeface="Arial"/>
              </a:rPr>
              <a:t> - conduzione</a:t>
            </a:r>
            <a:br>
              <a:rPr sz="1800"/>
            </a:br>
            <a:r>
              <a:rPr b="0" lang="it-IT" sz="1800" spc="-1" strike="noStrike">
                <a:solidFill>
                  <a:srgbClr val="000000"/>
                </a:solidFill>
                <a:latin typeface="Arial"/>
              </a:rPr>
              <a:t>In tutti e tre i metodi l'eccitazione del trasduttore può essere effettuata in modo continuo o ad impulsi</a:t>
            </a:r>
            <a:endParaRPr b="0" lang="en-US" sz="1800" spc="-1" strike="noStrike">
              <a:solidFill>
                <a:srgbClr val="000000"/>
              </a:solidFill>
              <a:latin typeface="Arial"/>
            </a:endParaRPr>
          </a:p>
        </p:txBody>
      </p:sp>
      <p:pic>
        <p:nvPicPr>
          <p:cNvPr id="73" name="Picture 3" descr="imgviewer"/>
          <p:cNvPicPr/>
          <p:nvPr/>
        </p:nvPicPr>
        <p:blipFill>
          <a:blip r:embed="rId1"/>
          <a:stretch/>
        </p:blipFill>
        <p:spPr>
          <a:xfrm>
            <a:off x="0" y="2781360"/>
            <a:ext cx="5184720" cy="2695680"/>
          </a:xfrm>
          <a:prstGeom prst="rect">
            <a:avLst/>
          </a:prstGeom>
          <a:ln w="0">
            <a:noFill/>
          </a:ln>
        </p:spPr>
      </p:pic>
      <p:pic>
        <p:nvPicPr>
          <p:cNvPr id="74" name="Picture 4" descr="imgviewer"/>
          <p:cNvPicPr/>
          <p:nvPr/>
        </p:nvPicPr>
        <p:blipFill>
          <a:blip r:embed="rId2"/>
          <a:stretch/>
        </p:blipFill>
        <p:spPr>
          <a:xfrm>
            <a:off x="4932360" y="2637000"/>
            <a:ext cx="3887640" cy="2323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95280" y="476280"/>
            <a:ext cx="8424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A PER RIFLESSIONE</a:t>
            </a:r>
            <a:br>
              <a:rPr sz="2400"/>
            </a:br>
            <a:r>
              <a:rPr b="0" lang="it-IT" sz="2400" spc="-1" strike="noStrike">
                <a:solidFill>
                  <a:srgbClr val="000000"/>
                </a:solidFill>
                <a:latin typeface="Arial"/>
              </a:rPr>
              <a:t>consiste nell'individuazione della presenza di una eco dovuta alla riflessione del fascio su un riflettore, eco che e' evidentemente assente se il pezzo esaminato e' integro.</a:t>
            </a:r>
            <a:br>
              <a:rPr sz="2400"/>
            </a:br>
            <a:r>
              <a:rPr b="0" lang="it-IT" sz="2400" spc="-1" strike="noStrike">
                <a:solidFill>
                  <a:srgbClr val="000000"/>
                </a:solidFill>
                <a:latin typeface="Arial"/>
              </a:rPr>
              <a:t>L'impiego di questa tecnica avviene con due metodi: </a:t>
            </a:r>
            <a:br>
              <a:rPr sz="2400"/>
            </a:br>
            <a:r>
              <a:rPr b="0" lang="it-IT" sz="2400" spc="-1" strike="noStrike">
                <a:solidFill>
                  <a:srgbClr val="000000"/>
                </a:solidFill>
                <a:latin typeface="Arial"/>
              </a:rPr>
              <a:t> - il metodo per risonanza in eccitazione continua</a:t>
            </a:r>
            <a:br>
              <a:rPr sz="2400"/>
            </a:br>
            <a:r>
              <a:rPr b="0" lang="it-IT" sz="2400" spc="-1" strike="noStrike">
                <a:solidFill>
                  <a:srgbClr val="000000"/>
                </a:solidFill>
                <a:latin typeface="Arial"/>
              </a:rPr>
              <a:t> - il metodo per riflessione classica a impulsi (+ utilizzato)</a:t>
            </a:r>
            <a:endParaRPr b="0" lang="en-US" sz="2400" spc="-1" strike="noStrike">
              <a:solidFill>
                <a:srgbClr val="000000"/>
              </a:solidFill>
              <a:latin typeface="Arial"/>
            </a:endParaRPr>
          </a:p>
        </p:txBody>
      </p:sp>
      <p:pic>
        <p:nvPicPr>
          <p:cNvPr id="76" name="Picture 3" descr="imgviewer"/>
          <p:cNvPicPr/>
          <p:nvPr/>
        </p:nvPicPr>
        <p:blipFill>
          <a:blip r:embed="rId1"/>
          <a:stretch/>
        </p:blipFill>
        <p:spPr>
          <a:xfrm>
            <a:off x="1908000" y="3284640"/>
            <a:ext cx="5040360" cy="320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395280" y="170028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ODO RADIOGRAFICO (RT)</a:t>
            </a:r>
            <a:br>
              <a:rPr sz="2400"/>
            </a:br>
            <a:r>
              <a:rPr b="0" lang="it-IT" sz="2400" spc="-1" strike="noStrike">
                <a:solidFill>
                  <a:srgbClr val="000000"/>
                </a:solidFill>
                <a:latin typeface="Arial"/>
              </a:rPr>
              <a:t>Mediante le tecniche radiografiche e gammagrafiche risulta possibile evidenziare un gran numero di discontinuità presenti in manufatti industriali, getti o saldature, quali ad esempio porosità, inclusioni, soffiature, cricche, tarli, inclusioni di scoria, mancanza di penetrazione.</a:t>
            </a:r>
            <a:br>
              <a:rPr sz="2400"/>
            </a:br>
            <a:r>
              <a:rPr b="0" lang="it-IT" sz="2400" spc="-1" strike="noStrike">
                <a:solidFill>
                  <a:srgbClr val="000000"/>
                </a:solidFill>
                <a:latin typeface="Arial"/>
              </a:rPr>
              <a:t>Il principio di funzionamento di tali tecniche si basa sulle alterazioni che radiazioni elettromagnetiche subiscono quando incontrano un difetto nel loro percorso all'interno del materia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un fascio di onde elettromagnetiche di </a:t>
            </a:r>
            <a:r>
              <a:rPr b="1" lang="it-IT" sz="2400" spc="-1" strike="noStrike">
                <a:solidFill>
                  <a:srgbClr val="000000"/>
                </a:solidFill>
                <a:latin typeface="Arial"/>
              </a:rPr>
              <a:t>elevatissima energia fotonica (elevata frequenza</a:t>
            </a:r>
            <a:r>
              <a:rPr b="0" lang="it-IT" sz="2400" spc="-1" strike="noStrike">
                <a:solidFill>
                  <a:srgbClr val="000000"/>
                </a:solidFill>
                <a:latin typeface="Arial"/>
              </a:rPr>
              <a:t>) e fortemente ionizzanti (</a:t>
            </a:r>
            <a:r>
              <a:rPr b="1" lang="it-IT" sz="2400" spc="-1" strike="noStrike">
                <a:solidFill>
                  <a:srgbClr val="000000"/>
                </a:solidFill>
                <a:latin typeface="Arial"/>
              </a:rPr>
              <a:t>raggi X o raggi gamma</a:t>
            </a:r>
            <a:r>
              <a:rPr b="0" lang="it-IT" sz="2400" spc="-1" strike="noStrike">
                <a:solidFill>
                  <a:srgbClr val="000000"/>
                </a:solidFill>
                <a:latin typeface="Arial"/>
              </a:rPr>
              <a:t>), passa attraverso l'oggetto da esaminare, viene assorbito con legge esponenziale in funzione dello spessore e della densità della materia attravers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raggi X o  "gamma" passanti e attenuati impressionano una lastra fotografica posta dietro l'oggetto da esamin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 sviluppo della pellicola produce un'immagine bidimensionale dell'oggetto radiografato. In questa immagine le variazioni di spessore, densità, composizione, del pezzo vengono visualizzate come variazioni di densità dell'immagine (in pratica variazioni in una scala di grigi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elementi essenziali del controllo radiografico sono tre: la sorgente di radiazione, il pezzo da controllare e la lastra radiogra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imgviewer"/>
          <p:cNvPicPr/>
          <p:nvPr/>
        </p:nvPicPr>
        <p:blipFill>
          <a:blip r:embed="rId1"/>
          <a:stretch/>
        </p:blipFill>
        <p:spPr>
          <a:xfrm>
            <a:off x="1116000" y="0"/>
            <a:ext cx="61815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imgviewer"/>
          <p:cNvPicPr/>
          <p:nvPr/>
        </p:nvPicPr>
        <p:blipFill>
          <a:blip r:embed="rId1"/>
          <a:stretch/>
        </p:blipFill>
        <p:spPr>
          <a:xfrm>
            <a:off x="2195640" y="2959200"/>
            <a:ext cx="4681440" cy="3592440"/>
          </a:xfrm>
          <a:prstGeom prst="rect">
            <a:avLst/>
          </a:prstGeom>
          <a:ln w="0">
            <a:noFill/>
          </a:ln>
        </p:spPr>
      </p:pic>
      <p:sp>
        <p:nvSpPr>
          <p:cNvPr id="81" name="Text Box 4"/>
          <p:cNvSpPr/>
          <p:nvPr/>
        </p:nvSpPr>
        <p:spPr>
          <a:xfrm>
            <a:off x="468360" y="620640"/>
            <a:ext cx="8207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ubo a raggi X</a:t>
            </a:r>
            <a:br>
              <a:rPr sz="1800"/>
            </a:br>
            <a:r>
              <a:rPr b="0" lang="it-IT" sz="1800" spc="-1" strike="noStrike">
                <a:solidFill>
                  <a:srgbClr val="000000"/>
                </a:solidFill>
                <a:latin typeface="Arial"/>
              </a:rPr>
              <a:t>L'energia e il potere di penetrazione dei raggi X sono tanto più grandi quanto più alto è il numero atomico dell'elemento colpito e quanto più alta è la velocità degli elettroni che lo colpiscono. L'anticatodo è generalmente eseguito in </a:t>
            </a:r>
            <a:r>
              <a:rPr b="1" lang="it-IT" sz="1800" spc="-1" strike="noStrike">
                <a:solidFill>
                  <a:srgbClr val="000000"/>
                </a:solidFill>
                <a:latin typeface="Arial"/>
              </a:rPr>
              <a:t>tungsteno</a:t>
            </a:r>
            <a:r>
              <a:rPr b="0" lang="it-IT" sz="1800" spc="-1" strike="noStrike">
                <a:solidFill>
                  <a:srgbClr val="000000"/>
                </a:solidFill>
                <a:latin typeface="Arial"/>
              </a:rPr>
              <a:t>, sia perché il numero atomico di questo metallo è alto, sia perché possiede un punto di fusione elevato (3400°C 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RGENTI RADIOATTIVE</a:t>
            </a:r>
            <a:br>
              <a:rPr sz="2400"/>
            </a:br>
            <a:r>
              <a:rPr b="1" lang="it-IT" sz="2400" spc="-1" strike="noStrike">
                <a:solidFill>
                  <a:srgbClr val="000000"/>
                </a:solidFill>
                <a:latin typeface="Arial"/>
              </a:rPr>
              <a:t>Radiattività</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adioattività è la proprietà per cui alcuni corpi emettono spontaneamente raggi alfa, beta, gam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no al 1934 il solo tipo di radioattività conosciuto era quello natura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l'inizio le quantità artificiali prodotte erano insufficienti ai fini dell'applicazione industriale e servivano solo agli esperimenti di laboratorio (in biologia e medicina).</a:t>
            </a:r>
            <a:br>
              <a:rPr sz="2400"/>
            </a:br>
            <a:r>
              <a:rPr b="0" lang="it-IT" sz="2400" spc="-1" strike="noStrike">
                <a:solidFill>
                  <a:srgbClr val="000000"/>
                </a:solidFill>
                <a:latin typeface="Arial"/>
              </a:rPr>
              <a:t>A partire dal 1947 si è giunti a produrre quantità considerevoli di isotopi radioattivi di alcuni elementi nel corso delle operazioni di fissione atomica realizzate nei reattori nuclear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isotopi radioattivi artificiali emettono radiazioni gamma e sono idonei agli esami non distruttivi. Si tratta di sottoprodotti dell'industria atomica che al giorno d'oggi possono essere acquistati a un prezzo ragionev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50920" y="476280"/>
            <a:ext cx="8569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ODI D'ESAME</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ontrolli non distruttivi si suddividono in due famigli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trolli non distruttivi superficiali</a:t>
            </a:r>
            <a:r>
              <a:rPr b="0" lang="it-IT" sz="2400" spc="-1" strike="noStrike">
                <a:solidFill>
                  <a:srgbClr val="000000"/>
                </a:solidFill>
                <a:latin typeface="Arial"/>
              </a:rPr>
              <a:t>: danno la possibilità di esaminare i particolarI solo a livello superficiale ed al massimo sottopelle. Con l'applicazione di tali metodi di esame si ha solo la possibilità di localizzare l'eventuale presenza dei difetti, identificando solo la loro forma ed estensione, quindi non si riesce a quantificare in modo preciso la profondità del difet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trolli non distruttivi volumetrici</a:t>
            </a:r>
            <a:r>
              <a:rPr b="0" lang="it-IT" sz="2400" spc="-1" strike="noStrike">
                <a:solidFill>
                  <a:srgbClr val="000000"/>
                </a:solidFill>
                <a:latin typeface="Arial"/>
              </a:rPr>
              <a:t>: al contrario dei metodi superficiali con l'applicazione dei controlli volumetrici si ha la possibilità di verificare l'integrità nel materiale, purtroppo in alcuni casi specifici non si riescono ad individuare difettosità superfici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0" y="333360"/>
            <a:ext cx="9144000" cy="57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rgenti radioattive naturali</a:t>
            </a:r>
            <a:br>
              <a:rPr sz="2400"/>
            </a:br>
            <a:r>
              <a:rPr b="0" lang="it-IT" sz="2400" spc="-1" strike="noStrike">
                <a:solidFill>
                  <a:srgbClr val="000000"/>
                </a:solidFill>
                <a:latin typeface="Arial"/>
              </a:rPr>
              <a:t>Gli elementi di questa categoria utilizzabili in radiografia industriale sono il </a:t>
            </a:r>
            <a:r>
              <a:rPr b="1" lang="it-IT" sz="2400" spc="-1" strike="noStrike">
                <a:solidFill>
                  <a:srgbClr val="000000"/>
                </a:solidFill>
                <a:latin typeface="Arial"/>
              </a:rPr>
              <a:t>radio, il radon etc</a:t>
            </a:r>
            <a:r>
              <a:rPr b="0" lang="it-IT" sz="2400" spc="-1" strike="noStrike">
                <a:solidFill>
                  <a:srgbClr val="000000"/>
                </a:solidFill>
                <a:latin typeface="Arial"/>
              </a:rPr>
              <a:t>. Essi emettono una radiazione molto dura, particolarmente idonea all'esame di oggetti spessi. II loro prezzo, inoltre, è molto elevato. Attualmente, in radiografia industriale le sorgenti radioattive naturali non sono quasi più utilizzate. In alcuni paesi ne è vietato l'us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rgenti radioattive artificiali</a:t>
            </a:r>
            <a:br>
              <a:rPr sz="2400"/>
            </a:br>
            <a:r>
              <a:rPr b="0" lang="it-IT" sz="2400" spc="-1" strike="noStrike">
                <a:solidFill>
                  <a:srgbClr val="000000"/>
                </a:solidFill>
                <a:latin typeface="Arial"/>
              </a:rPr>
              <a:t>I prodotti radioattivi artificiali si ottengono per fissione o per irraggiamento in un reattore nucleare. In questo modo si possono ottenere isotopi in quantità relativamente cospicua e con una purezza soddisfacente. Tra i fattori che ne determinano l'applicabilità all'esame non distruttivo dei materiali vi sono in particolare la qualità e l'intensità della radiazione emessa, il tempo di dimezza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0" y="33336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AGGI GAMMA: VANTAGGI E SVANTAGG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richiedono né energia elettrica, né sistema di raffreddamento, pertanto sono molto facili da utilizz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orgente è disponibile in diversi diametri: si può dunque utilizzare una sorgente di diametro ridotto quando occorre una distanza tra la sorgente e la pellicola il più ridotta possibile, ad esempio all'interno di un tubo.</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i isotopi radioattivi emettono radiazioni con un potere di penetrazione elevatissimo, permettendo cosí di ottenere radiografie soddisfacenti di pezzi di grande spess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8088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a:t>
            </a:r>
            <a:r>
              <a:rPr b="1" lang="it-IT" sz="2400" spc="-1" strike="noStrike">
                <a:solidFill>
                  <a:srgbClr val="000000"/>
                </a:solidFill>
                <a:latin typeface="Arial"/>
              </a:rPr>
              <a:t>inconvenienti </a:t>
            </a:r>
            <a:r>
              <a:rPr b="0" lang="it-IT" sz="2400" spc="-1" strike="noStrike">
                <a:solidFill>
                  <a:srgbClr val="000000"/>
                </a:solidFill>
                <a:latin typeface="Arial"/>
              </a:rPr>
              <a:t>dei raggi gamma sono i seguen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la maggior parte degli oggetti da esaminare gli isotopi radioattivi più frequentemente utilizzati (Co-60, Ir-192), rispetto ai raggi X danno immagini meno contrastate a causa dell'alta energia di irradiamento. Ne risulta che le radiografie sono </a:t>
            </a:r>
            <a:r>
              <a:rPr b="1" lang="it-IT" sz="2400" spc="-1" strike="noStrike">
                <a:solidFill>
                  <a:srgbClr val="000000"/>
                </a:solidFill>
                <a:latin typeface="Arial"/>
              </a:rPr>
              <a:t>meno sensibili e più difficili da interpretare</a:t>
            </a:r>
            <a:r>
              <a:rPr b="0" lang="it-IT"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ola sorgente di raggi gamma che permette di ottenere buone radiografie di oggetti sottili in acciaio è Yb-169, il cui periodo di dimezzamento è relativamente breve (Itterbi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on è possibile interrompere la radiazione emessa dalle sorgenti radioattive</a:t>
            </a:r>
            <a:r>
              <a:rPr b="0" lang="it-IT" sz="2400" spc="-1" strike="noStrike">
                <a:solidFill>
                  <a:srgbClr val="000000"/>
                </a:solidFill>
                <a:latin typeface="Arial"/>
              </a:rPr>
              <a:t>. Esse debbono quindi essere isolate. Per le sorgenti con radiazione molto penetrante e/o intensa, la corazza necessaria può essere molto pesan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rraggiamento delle sorgenti radioattive non puó essere regol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0" y="38088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nsità di un fascio di raggi X o gamma si attenua localmente allorché attraversa un ogget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a attenuazione risulta dall'assorbimento e dalla diffusione della radiazione a opera dello stesso pezzo esamina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fascio che impressiona la pellicola, dopo aver attraversato il pezzo, determina zone di intensità differenti che globalmente costituiscono l'immagine radian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ezzo assorbe parte del fascio primario di raggi X. Una parte della radiazione viene diffusa e puó raggiungere la pellicola in modo indiret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adiazione totale che raggiunge un determinato punto della pellicola è costituita in parte dalla radiazione primaria che forma l'immagine del difetto (detta radiazione diretta) ed in parte dalla radiazione diffusa, o indiretta, che non contribuisce alla formazione dell'immag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68360" y="1268280"/>
            <a:ext cx="8424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defin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quidi penetranti</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Difetti superficia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odi ferromagnetici</a:t>
            </a:r>
            <a:r>
              <a:rPr b="1" lang="it-IT" sz="2400" spc="-1" strike="noStrike">
                <a:solidFill>
                  <a:srgbClr val="000000"/>
                </a:solidFill>
                <a:latin typeface="Arial"/>
              </a:rPr>
              <a:t>	</a:t>
            </a:r>
            <a:r>
              <a:rPr b="1" lang="it-IT" sz="2400" spc="-1" strike="noStrike">
                <a:solidFill>
                  <a:srgbClr val="000000"/>
                </a:solidFill>
                <a:latin typeface="Arial"/>
              </a:rPr>
              <a:t>Difetti subpellicolari, materiali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ferromagneti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ltrasuoni</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Difetti interni anche piccoli,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non subpellicolar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odi radiografici</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Difetti inter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250920" y="47628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 momento che i metodi di esame volumetrici e superficiali hanno dei limiti, per aumentare l'affidabilità del controllo è buona norma abbinare una tecnica di controllo volumetrico con una di controllo superfi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odi superficiali</a:t>
            </a:r>
            <a:br>
              <a:rPr sz="2400"/>
            </a:br>
            <a:r>
              <a:rPr b="0" lang="it-IT" sz="2400" spc="-1" strike="noStrike">
                <a:solidFill>
                  <a:srgbClr val="000000"/>
                </a:solidFill>
                <a:latin typeface="Arial"/>
              </a:rPr>
              <a:t>I metodi di controllo non distruttivo superficiali so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same visiv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same con liquidi penetrant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sami con particelle magnetic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odi volumetrici</a:t>
            </a:r>
            <a:br>
              <a:rPr sz="2400"/>
            </a:br>
            <a:r>
              <a:rPr b="0" lang="it-IT" sz="2400" spc="-1" strike="noStrike">
                <a:solidFill>
                  <a:srgbClr val="000000"/>
                </a:solidFill>
                <a:latin typeface="Arial"/>
              </a:rPr>
              <a:t>I metodi di controllo non distruttivo volumetrici so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same radiograf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same radioscop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same ad ultrasu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50920" y="404640"/>
            <a:ext cx="8893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QUIDI PENETRANTI (PT)</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incipio del metodo</a:t>
            </a:r>
            <a:br>
              <a:rPr sz="2400"/>
            </a:br>
            <a:r>
              <a:rPr b="0" lang="it-IT" sz="2400" spc="-1" strike="noStrike">
                <a:solidFill>
                  <a:srgbClr val="000000"/>
                </a:solidFill>
                <a:latin typeface="Arial"/>
              </a:rPr>
              <a:t>prova non distrutti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sfrutta la capacità di alcuni liquidi di penetrare, per capillarità e non per gravità, all'interno dei difetti superficiali (cricche, cavità, ec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sa tensione superficiale e la buona bagnabilità di questi liquidi, ne assicurano la penetrazione anche all'interno di discontinuità sottilissim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opo l'applicazione e la penetrazione del liquido (detto appunto </a:t>
            </a:r>
            <a:r>
              <a:rPr b="1" lang="it-IT" sz="2400" spc="-1" strike="noStrike">
                <a:solidFill>
                  <a:srgbClr val="000000"/>
                </a:solidFill>
                <a:latin typeface="Arial"/>
              </a:rPr>
              <a:t>penetrante</a:t>
            </a:r>
            <a:r>
              <a:rPr b="0" lang="it-IT" sz="2400" spc="-1" strike="noStrike">
                <a:solidFill>
                  <a:srgbClr val="000000"/>
                </a:solidFill>
                <a:latin typeface="Arial"/>
              </a:rPr>
              <a:t>), il liquido penetrante eccedente è rimosso dalla superficie mediante lavaggio con acqua corrente fredda, che presenta tensione superficiale più elevata e bagnabilità peggiore rispetto al penetrante, non è in grado di rimuovere lo stesso dalle fessure ove è penetrato per capillarit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395280" y="77472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400" spc="-1" strike="noStrike">
                <a:solidFill>
                  <a:srgbClr val="000000"/>
                </a:solidFill>
                <a:latin typeface="Arial"/>
              </a:rPr>
              <a:t>dopo il lavaggio, sfruttando ancora una volta il principio della capillarità, viene estratto il liquido penetrante rimasto all'interno delle difettosità; l'operazione viene compiuta stendendo sulla superficie del pezzo uno strato di polvere bianca di opportuno spessore (</a:t>
            </a:r>
            <a:r>
              <a:rPr b="1" lang="it-IT" sz="2400" spc="-1" strike="noStrike">
                <a:solidFill>
                  <a:srgbClr val="000000"/>
                </a:solidFill>
                <a:latin typeface="Arial"/>
              </a:rPr>
              <a:t>rivelatore</a:t>
            </a:r>
            <a:r>
              <a:rPr b="0" lang="it-IT"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il liquido penetrante "risalito" per capillarità, lascerà nel rivelatore un segnale avente dimensioni molto maggiori rispetto al difetto che lo ha gener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il difetto potrà essere evidenziato  o come una macchia di colore rosso (</a:t>
            </a:r>
            <a:r>
              <a:rPr b="1" lang="it-IT" sz="2400" spc="-1" strike="noStrike">
                <a:solidFill>
                  <a:srgbClr val="000000"/>
                </a:solidFill>
                <a:latin typeface="Arial"/>
              </a:rPr>
              <a:t>tecnica visibile o a contrasto di colore</a:t>
            </a:r>
            <a:r>
              <a:rPr b="0" lang="it-IT" sz="2400" spc="-1" strike="noStrike">
                <a:solidFill>
                  <a:srgbClr val="000000"/>
                </a:solidFill>
                <a:latin typeface="Arial"/>
              </a:rPr>
              <a:t>) o come macchia fluorescente (</a:t>
            </a:r>
            <a:r>
              <a:rPr b="1" lang="it-IT" sz="2400" spc="-1" strike="noStrike">
                <a:solidFill>
                  <a:srgbClr val="000000"/>
                </a:solidFill>
                <a:latin typeface="Arial"/>
              </a:rPr>
              <a:t>tecnica con liquido fluorescente</a:t>
            </a:r>
            <a:r>
              <a:rPr b="0" lang="it-IT" sz="2400" spc="-1" strike="noStrike">
                <a:solidFill>
                  <a:srgbClr val="000000"/>
                </a:solidFill>
                <a:latin typeface="Arial"/>
              </a:rPr>
              <a:t>) facilmente rilevabile mediante irradiazione, al buio, con </a:t>
            </a:r>
            <a:r>
              <a:rPr b="1" lang="it-IT" sz="2400" spc="-1" strike="noStrike">
                <a:solidFill>
                  <a:srgbClr val="000000"/>
                </a:solidFill>
                <a:latin typeface="Arial"/>
              </a:rPr>
              <a:t>luce di Wood</a:t>
            </a:r>
            <a:r>
              <a:rPr b="0" lang="it-IT" sz="2400" spc="-1" strike="noStrike">
                <a:solidFill>
                  <a:srgbClr val="000000"/>
                </a:solidFill>
                <a:latin typeface="Arial"/>
              </a:rPr>
              <a:t> (luce UVA da 400 a 315 nm, non pericolos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395280" y="77472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pplicazioni</a:t>
            </a:r>
            <a:br>
              <a:rPr sz="2400"/>
            </a:br>
            <a:r>
              <a:rPr b="0" lang="it-IT" sz="2400" spc="-1" strike="noStrike">
                <a:solidFill>
                  <a:srgbClr val="000000"/>
                </a:solidFill>
                <a:latin typeface="Arial"/>
              </a:rPr>
              <a:t>L'ispezione con liquidi penetranti è un metodo particolarmente idoneo per evidenziare e localizzare discontinuità superficiali, quali cricche, porosità, ripiegature, in modo veloce ed economico e con grande accuratezza su tutte le tipologie di materiali, acciai, leghe di rame, leghe di alluminio, vetro, plastica ad altro, senza alcune limitazione della forma dei componenti stessi.</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rariamente ai controlli magnetici, i liquidi penetranti possono essere applicati con successo su qualsiasi componente, indipendentemente dalla geometria o dal materiale dello stesso (fatti salvi pezzi porosi, come ad esempio i sinterizzati o i getti di ghisa oppure pezzi con superfici particolarmente rugo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24000" y="189000"/>
            <a:ext cx="4608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 - Preparazione della superficie</a:t>
            </a:r>
            <a:br>
              <a:rPr sz="2400"/>
            </a:br>
            <a:r>
              <a:rPr b="0" lang="it-IT" sz="2400" spc="-1" strike="noStrike">
                <a:solidFill>
                  <a:srgbClr val="000000"/>
                </a:solidFill>
                <a:latin typeface="Arial"/>
              </a:rPr>
              <a:t>Le superfici del prodotto da testare devono essere accuratamente pulite ed asciugate prima di sottoporre il materiale al controllo.</a:t>
            </a:r>
            <a:endParaRPr b="0" lang="en-US" sz="2400" spc="-1" strike="noStrike">
              <a:solidFill>
                <a:srgbClr val="000000"/>
              </a:solidFill>
              <a:latin typeface="Arial"/>
            </a:endParaRPr>
          </a:p>
        </p:txBody>
      </p:sp>
      <p:pic>
        <p:nvPicPr>
          <p:cNvPr id="49" name="Picture 5" descr="http://ralph-dte.eu/files/2009/01/liquidi_penetranti.jpg"/>
          <p:cNvPicPr/>
          <p:nvPr/>
        </p:nvPicPr>
        <p:blipFill>
          <a:blip r:embed="rId1"/>
          <a:stretch/>
        </p:blipFill>
        <p:spPr>
          <a:xfrm>
            <a:off x="179280" y="2924280"/>
            <a:ext cx="4507200" cy="3643200"/>
          </a:xfrm>
          <a:prstGeom prst="rect">
            <a:avLst/>
          </a:prstGeom>
          <a:ln w="0">
            <a:noFill/>
          </a:ln>
        </p:spPr>
      </p:pic>
      <p:sp>
        <p:nvSpPr>
          <p:cNvPr id="50" name="Rectangle 2"/>
          <p:cNvSpPr/>
          <p:nvPr/>
        </p:nvSpPr>
        <p:spPr>
          <a:xfrm>
            <a:off x="4859280" y="260280"/>
            <a:ext cx="4068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 - Penetrazione</a:t>
            </a:r>
            <a:br>
              <a:rPr sz="2400"/>
            </a:br>
            <a:r>
              <a:rPr b="0" lang="it-IT" sz="2400" spc="-1" strike="noStrike">
                <a:solidFill>
                  <a:srgbClr val="000000"/>
                </a:solidFill>
                <a:latin typeface="Arial"/>
              </a:rPr>
              <a:t>Dopo aver pulito ed asciugato il pezzo, il liquido penetrante deve essere applicato in modo tale da formare un film che ricopra la zona da ispezionare. Questo film deve essere mantenuto per un tempo sufficiente per permettere la massima penetrazione del penetrante all'interno di ogni discontinuità affiorante in superfici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79280" y="404640"/>
            <a:ext cx="878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 - Rimozione del penetrante in eccesso</a:t>
            </a:r>
            <a:br>
              <a:rPr sz="1800"/>
            </a:br>
            <a:r>
              <a:rPr b="0" lang="it-IT" sz="1800" spc="-1" strike="noStrike">
                <a:solidFill>
                  <a:srgbClr val="000000"/>
                </a:solidFill>
                <a:latin typeface="Arial"/>
              </a:rPr>
              <a:t>Il metodo di rimozione dipende dal tipo di penetrante utilizzato. In alcuni casi sarà sufficiente pulire con uno straccio o risciacquare con acqua, in altri casi sarà necessario l'utilizzo di un solvente. L'uniforme eliminazione del penetrante in eccesso è necessaria per permettere un'ispezione efficace, tuttavia occorre evitare un eccesso di rimozione del penetrante, cosa che potrebbe compromettere l'esame. Dopo si passa all'asciugatura con aria calda oppure con l'utilizzo di panni in cot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4 - Applicazione del rilevatore e "sviluppo"</a:t>
            </a:r>
            <a:br>
              <a:rPr sz="1800"/>
            </a:br>
            <a:r>
              <a:rPr b="0" lang="it-IT" sz="1800" spc="-1" strike="noStrike">
                <a:solidFill>
                  <a:srgbClr val="000000"/>
                </a:solidFill>
                <a:latin typeface="Arial"/>
              </a:rPr>
              <a:t>Il rilevatore viene applicato in modo che formi un film sulla superficie sottoposta a prova e favorisce la fuoriuscita del penetrante dalle discontinuità affioranti in superficie, con l'effetto di ingrandire notevolmente la grandezza apparente del difetto.</a:t>
            </a:r>
            <a:endParaRPr b="0" lang="en-US" sz="1800" spc="-1" strike="noStrike">
              <a:solidFill>
                <a:srgbClr val="000000"/>
              </a:solidFill>
              <a:latin typeface="Arial"/>
            </a:endParaRPr>
          </a:p>
        </p:txBody>
      </p:sp>
      <p:pic>
        <p:nvPicPr>
          <p:cNvPr id="52" name="Picture 6" descr="http://www.steelservice-cnd.com/images/liquidi_penetranti1.jpg"/>
          <p:cNvPicPr/>
          <p:nvPr/>
        </p:nvPicPr>
        <p:blipFill>
          <a:blip r:embed="rId1"/>
          <a:stretch/>
        </p:blipFill>
        <p:spPr>
          <a:xfrm>
            <a:off x="1476360" y="4149720"/>
            <a:ext cx="5113440" cy="2255760"/>
          </a:xfrm>
          <a:prstGeom prst="rect">
            <a:avLst/>
          </a:prstGeom>
          <a:ln w="0">
            <a:noFill/>
          </a:ln>
        </p:spPr>
      </p:pic>
      <p:sp>
        <p:nvSpPr>
          <p:cNvPr id="53" name="Rectangle 2"/>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09:41:57Z</dcterms:created>
  <dc:creator>Arc</dc:creator>
  <dc:description/>
  <dc:language>en-US</dc:language>
  <cp:lastModifiedBy>240</cp:lastModifiedBy>
  <dcterms:modified xsi:type="dcterms:W3CDTF">2013-05-13T16:06:30Z</dcterms:modified>
  <cp:revision>8</cp:revision>
  <dc:subject/>
  <dc:title>Diapositiva 1</dc:title>
</cp:coreProperties>
</file>